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16.wmf" ContentType="image/x-wmf"/>
  <Override PartName="/ppt/media/image81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95.png" ContentType="image/png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79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.png" ContentType="image/png"/>
  <Override PartName="/ppt/media/image38.wmf" ContentType="image/x-wmf"/>
  <Override PartName="/ppt/media/image23.wmf" ContentType="image/x-wmf"/>
  <Override PartName="/ppt/media/image62.png" ContentType="image/png"/>
  <Override PartName="/ppt/media/image27.wmf" ContentType="image/x-wmf"/>
  <Override PartName="/ppt/media/image92.wmf" ContentType="image/x-wmf"/>
  <Override PartName="/ppt/media/image64.png" ContentType="image/png"/>
  <Override PartName="/ppt/media/image21.wmf" ContentType="image/x-wmf"/>
  <Override PartName="/ppt/media/image60.png" ContentType="image/png"/>
  <Override PartName="/ppt/media/image22.wmf" ContentType="image/x-wmf"/>
  <Override PartName="/ppt/media/image61.png" ContentType="image/png"/>
  <Override PartName="/ppt/media/image93.wmf" ContentType="image/x-wmf"/>
  <Override PartName="/ppt/media/image28.wmf" ContentType="image/x-wmf"/>
  <Override PartName="/ppt/media/image70.wmf" ContentType="image/x-wmf"/>
  <Override PartName="/ppt/media/image65.wmf" ContentType="image/x-wmf"/>
  <Override PartName="/ppt/media/image94.wmf" ContentType="image/x-wmf"/>
  <Override PartName="/ppt/media/image29.wmf" ContentType="image/x-wmf"/>
  <Override PartName="/ppt/media/image71.wmf" ContentType="image/x-wmf"/>
  <Override PartName="/ppt/media/image66.wmf" ContentType="image/x-wmf"/>
  <Override PartName="/ppt/media/image24.wmf" ContentType="image/x-wmf"/>
  <Override PartName="/ppt/media/image96.wmf" ContentType="image/x-wmf"/>
  <Override PartName="/ppt/media/image72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84.wmf" ContentType="image/x-wmf"/>
  <Override PartName="/ppt/media/image19.wmf" ContentType="image/x-wmf"/>
  <Override PartName="/ppt/media/image63.png" ContentType="image/png"/>
  <Override PartName="/ppt/media/image20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57.png" ContentType="image/png"/>
  <Override PartName="/ppt/media/image17.wmf" ContentType="image/x-wmf"/>
  <Override PartName="/ppt/media/image82.wmf" ContentType="image/x-wmf"/>
  <Override PartName="/ppt/media/image25.wmf" ContentType="image/x-wmf"/>
  <Override PartName="/ppt/media/image90.wmf" ContentType="image/x-wmf"/>
  <Override PartName="/ppt/media/image11.wmf" ContentType="image/x-wmf"/>
  <Override PartName="/ppt/media/image48.wmf" ContentType="image/x-wmf"/>
  <Override PartName="/ppt/media/image91.wmf" ContentType="image/x-wmf"/>
  <Override PartName="/ppt/media/image26.wmf" ContentType="image/x-wmf"/>
  <Override PartName="/ppt/media/image33.wmf" ContentType="image/x-wmf"/>
  <Override PartName="/ppt/media/image10.wmf" ContentType="image/x-wmf"/>
  <Override PartName="/ppt/media/image47.wmf" ContentType="image/x-wmf"/>
  <Override PartName="/ppt/media/image15.wmf" ContentType="image/x-wmf"/>
  <Override PartName="/ppt/media/image58.png" ContentType="image/png"/>
  <Override PartName="/ppt/media/image3.wmf" ContentType="image/x-wmf"/>
  <Override PartName="/ppt/media/image80.wmf" ContentType="image/x-wmf"/>
  <Override PartName="/ppt/media/image1.jpeg" ContentType="image/jpeg"/>
  <Override PartName="/ppt/media/image89.wmf" ContentType="image/x-wmf"/>
  <Override PartName="/ppt/media/image6.png" ContentType="image/png"/>
  <Override PartName="/ppt/media/image83.png" ContentType="image/png"/>
  <Override PartName="/ppt/media/image40.wmf" ContentType="image/x-wmf"/>
  <Override PartName="/ppt/media/image8.wmf" ContentType="image/x-wmf"/>
  <Override PartName="/ppt/media/image85.wmf" ContentType="image/x-wmf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4.bin" ContentType="application/vnd.openxmlformats-officedocument.oleObjec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7F85-55F6-412D-9E6D-4179076261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A058-19EE-49CA-BD76-E7B0221F65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66E-1638-459C-B564-81B4B86E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904-5487-426A-8F28-677DC0B3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A5F-0BDD-4D86-A2ED-6B9D8FF7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252-FAA3-4EE7-BF90-AD250DAF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EB3-CCA0-41D2-8239-1C173798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E0F-EE94-4D7C-887D-6617FA42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348-C9E8-4CC3-889A-2E91934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819-1D80-4DB8-B55D-4D38B0E7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0A1-0EDD-4483-AE15-154D698C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EE5-B83C-4667-90A8-E656D96E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687-F781-4BA0-9062-231A3998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1E0-5570-4E23-8B76-F80F749D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E0E3-3BE7-4375-838F-25261DB26D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2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image" Target="../media/image50.wmf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52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42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5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6.wmf"/><Relationship Id="rId8" Type="http://schemas.openxmlformats.org/officeDocument/2006/relationships/image" Target="../media/image5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0.png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1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62.png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63.png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64.pn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8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74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75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76.wmf"/><Relationship Id="rId2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6.wmf"/><Relationship Id="rId8" Type="http://schemas.openxmlformats.org/officeDocument/2006/relationships/image" Target="../media/image5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7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8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8.png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9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80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81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82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83.png"/><Relationship Id="rId2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85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86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87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88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89.wmf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9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93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94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95.png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6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4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7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6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0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3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2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8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9.wmf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7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1.2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极限的运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圆角矩形 2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56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4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4572000" y="907920"/>
          <a:ext cx="1152360" cy="103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907920"/>
                    <a:ext cx="11523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2734560" y="2492280"/>
            <a:ext cx="3276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除分子及分母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然后取极限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365040" y="2492280"/>
            <a:ext cx="1570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826920" y="1052640"/>
            <a:ext cx="6494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2" descr=""/>
          <p:cNvPicPr/>
          <p:nvPr/>
        </p:nvPicPr>
        <p:blipFill>
          <a:blip r:embed="rId8"/>
          <a:srcRect l="11646" t="9730" r="67851" b="10676"/>
          <a:stretch/>
        </p:blipFill>
        <p:spPr>
          <a:xfrm>
            <a:off x="1619280" y="907920"/>
            <a:ext cx="2819520" cy="838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3" descr=""/>
          <p:cNvPicPr/>
          <p:nvPr/>
        </p:nvPicPr>
        <p:blipFill>
          <a:blip r:embed="rId9"/>
          <a:srcRect l="0" t="12877" r="84482" b="12932"/>
          <a:stretch/>
        </p:blipFill>
        <p:spPr>
          <a:xfrm>
            <a:off x="1979640" y="3102120"/>
            <a:ext cx="2133720" cy="1558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4" descr=""/>
          <p:cNvPicPr/>
          <p:nvPr/>
        </p:nvPicPr>
        <p:blipFill>
          <a:blip r:embed="rId10"/>
          <a:srcRect l="15526" t="12877" r="66745" b="12932"/>
          <a:stretch/>
        </p:blipFill>
        <p:spPr>
          <a:xfrm>
            <a:off x="4113360" y="3102120"/>
            <a:ext cx="2438280" cy="1558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5" descr=""/>
          <p:cNvPicPr/>
          <p:nvPr/>
        </p:nvPicPr>
        <p:blipFill>
          <a:blip r:embed="rId11"/>
          <a:srcRect l="33262" t="12877" r="57317" b="12932"/>
          <a:stretch/>
        </p:blipFill>
        <p:spPr>
          <a:xfrm>
            <a:off x="6551640" y="3102120"/>
            <a:ext cx="1295280" cy="155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Object 10"/>
          <p:cNvGraphicFramePr/>
          <p:nvPr/>
        </p:nvGraphicFramePr>
        <p:xfrm>
          <a:off x="900000" y="4581360"/>
          <a:ext cx="3672000" cy="1173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00000" y="4581360"/>
                    <a:ext cx="36720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2"/>
          <p:cNvGraphicFramePr/>
          <p:nvPr/>
        </p:nvGraphicFramePr>
        <p:xfrm>
          <a:off x="4788000" y="4724280"/>
          <a:ext cx="1152360" cy="1032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5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788000" y="4724280"/>
                    <a:ext cx="11523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3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6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7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7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7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6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8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8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1455840" y="102024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地，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2627280" y="1036800"/>
          <a:ext cx="153504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27280" y="1036800"/>
                    <a:ext cx="15350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Rectangle 7"/>
          <p:cNvSpPr/>
          <p:nvPr/>
        </p:nvSpPr>
        <p:spPr>
          <a:xfrm>
            <a:off x="4768560" y="1020240"/>
            <a:ext cx="22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, 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正整数，则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7"/>
          <p:cNvGraphicFramePr/>
          <p:nvPr/>
        </p:nvGraphicFramePr>
        <p:xfrm>
          <a:off x="1476360" y="2421000"/>
          <a:ext cx="5533920" cy="2582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0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76360" y="2421000"/>
                    <a:ext cx="553392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7"/>
          <p:cNvGraphicFramePr/>
          <p:nvPr/>
        </p:nvGraphicFramePr>
        <p:xfrm>
          <a:off x="3165480" y="5337000"/>
          <a:ext cx="1577880" cy="459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4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65480" y="5337000"/>
                    <a:ext cx="15778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圆角矩形 2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0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1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1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1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2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7" name="Object 4"/>
          <p:cNvGraphicFramePr/>
          <p:nvPr/>
        </p:nvGraphicFramePr>
        <p:xfrm>
          <a:off x="826920" y="836640"/>
          <a:ext cx="380556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836640"/>
                    <a:ext cx="38055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4"/>
          <p:cNvSpPr/>
          <p:nvPr/>
        </p:nvSpPr>
        <p:spPr>
          <a:xfrm>
            <a:off x="611280" y="1341360"/>
            <a:ext cx="469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60309"/>
                </a:solidFill>
                <a:latin typeface="黑体"/>
                <a:ea typeface="黑体"/>
              </a:rPr>
              <a:t>一、 第一个重要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9"/>
              <p:cNvSpPr txBox="1"/>
              <p:nvPr/>
            </p:nvSpPr>
            <p:spPr>
              <a:xfrm>
                <a:off x="1187280" y="2060640"/>
                <a:ext cx="1872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31" name="Object 9"/>
          <p:cNvGraphicFramePr/>
          <p:nvPr/>
        </p:nvGraphicFramePr>
        <p:xfrm>
          <a:off x="990720" y="2924280"/>
          <a:ext cx="1457280" cy="44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2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924280"/>
                    <a:ext cx="1457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组合 32"/>
          <p:cNvGrpSpPr/>
          <p:nvPr/>
        </p:nvGrpSpPr>
        <p:grpSpPr>
          <a:xfrm>
            <a:off x="2771640" y="2781360"/>
            <a:ext cx="2178360" cy="1103400"/>
            <a:chOff x="2771640" y="2781360"/>
            <a:chExt cx="2178360" cy="1103400"/>
          </a:xfrm>
        </p:grpSpPr>
        <p:graphicFrame>
          <p:nvGraphicFramePr>
            <p:cNvPr id="434" name="Object 9"/>
            <p:cNvGraphicFramePr/>
            <p:nvPr/>
          </p:nvGraphicFramePr>
          <p:xfrm>
            <a:off x="2771640" y="2781360"/>
            <a:ext cx="2178360" cy="1103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5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71640" y="2781360"/>
                      <a:ext cx="2178360" cy="110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矩形 57"/>
            <p:cNvSpPr/>
            <p:nvPr/>
          </p:nvSpPr>
          <p:spPr>
            <a:xfrm>
              <a:off x="4140360" y="2997000"/>
              <a:ext cx="215640" cy="215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58"/>
            <p:cNvSpPr/>
            <p:nvPr/>
          </p:nvSpPr>
          <p:spPr>
            <a:xfrm>
              <a:off x="3924360" y="3429000"/>
              <a:ext cx="215640" cy="217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31"/>
            <p:cNvSpPr/>
            <p:nvPr/>
          </p:nvSpPr>
          <p:spPr>
            <a:xfrm>
              <a:off x="3252240" y="3357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39" name="直接箭头连接符 60"/>
          <p:cNvCxnSpPr/>
          <p:nvPr/>
        </p:nvCxnSpPr>
        <p:spPr>
          <a:xfrm flipV="1">
            <a:off x="3419640" y="2349000"/>
            <a:ext cx="505440" cy="1161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440" name="Object 9"/>
          <p:cNvGraphicFramePr/>
          <p:nvPr/>
        </p:nvGraphicFramePr>
        <p:xfrm>
          <a:off x="3132000" y="1844640"/>
          <a:ext cx="558828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2000" y="1844640"/>
                    <a:ext cx="55882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42" name="直接箭头连接符 62"/>
          <p:cNvCxnSpPr/>
          <p:nvPr/>
        </p:nvCxnSpPr>
        <p:spPr>
          <a:xfrm>
            <a:off x="3995280" y="3573000"/>
            <a:ext cx="289440" cy="36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443" name="Object 9"/>
          <p:cNvGraphicFramePr/>
          <p:nvPr/>
        </p:nvGraphicFramePr>
        <p:xfrm>
          <a:off x="2916360" y="4076640"/>
          <a:ext cx="5502240" cy="374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16360" y="4076640"/>
                    <a:ext cx="55022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45" name="直接箭头连接符 65"/>
          <p:cNvCxnSpPr>
            <a:stCxn id="436" idx="2"/>
          </p:cNvCxnSpPr>
          <p:nvPr/>
        </p:nvCxnSpPr>
        <p:spPr>
          <a:xfrm>
            <a:off x="4248000" y="3213000"/>
            <a:ext cx="10872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446" name="Object 9"/>
          <p:cNvGraphicFramePr/>
          <p:nvPr/>
        </p:nvGraphicFramePr>
        <p:xfrm>
          <a:off x="1116000" y="4508640"/>
          <a:ext cx="419040" cy="37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7" name="Object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16000" y="4508640"/>
                    <a:ext cx="41904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9"/>
          <p:cNvGraphicFramePr/>
          <p:nvPr/>
        </p:nvGraphicFramePr>
        <p:xfrm>
          <a:off x="1835280" y="4941720"/>
          <a:ext cx="1693800" cy="792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9" name="Object 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35280" y="4941720"/>
                    <a:ext cx="16938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9"/>
          <p:cNvGraphicFramePr/>
          <p:nvPr/>
        </p:nvGraphicFramePr>
        <p:xfrm>
          <a:off x="4500720" y="4941720"/>
          <a:ext cx="2055600" cy="84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1" name="Object 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00720" y="4941720"/>
                    <a:ext cx="205560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3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5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6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7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Rectangle 4"/>
          <p:cNvSpPr/>
          <p:nvPr/>
        </p:nvSpPr>
        <p:spPr>
          <a:xfrm>
            <a:off x="684360" y="907920"/>
            <a:ext cx="469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60309"/>
                </a:solidFill>
                <a:latin typeface="黑体"/>
                <a:ea typeface="黑体"/>
              </a:rPr>
              <a:t>一、 第一个重要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3"/>
          <p:cNvSpPr/>
          <p:nvPr/>
        </p:nvSpPr>
        <p:spPr>
          <a:xfrm>
            <a:off x="4176720" y="12715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不满足重要极限的式子可以通过添一些项使之满足式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而求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1239480" y="24264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求极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6360" y="37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Object 4"/>
          <p:cNvGraphicFramePr/>
          <p:nvPr/>
        </p:nvGraphicFramePr>
        <p:xfrm>
          <a:off x="2556000" y="2133720"/>
          <a:ext cx="137160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0" y="2133720"/>
                    <a:ext cx="13716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Rectangle 8"/>
          <p:cNvSpPr/>
          <p:nvPr/>
        </p:nvSpPr>
        <p:spPr>
          <a:xfrm>
            <a:off x="802080" y="37915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Object 6"/>
          <p:cNvGraphicFramePr/>
          <p:nvPr/>
        </p:nvGraphicFramePr>
        <p:xfrm>
          <a:off x="1332000" y="3500280"/>
          <a:ext cx="1295280" cy="78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2000" y="3500280"/>
                    <a:ext cx="12952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12"/>
          <p:cNvSpPr/>
          <p:nvPr/>
        </p:nvSpPr>
        <p:spPr>
          <a:xfrm>
            <a:off x="36360" y="351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8"/>
          <p:cNvGraphicFramePr/>
          <p:nvPr/>
        </p:nvGraphicFramePr>
        <p:xfrm>
          <a:off x="2843280" y="3141720"/>
          <a:ext cx="2133360" cy="156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3280" y="3141720"/>
                    <a:ext cx="213336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Rectangle 15"/>
          <p:cNvSpPr/>
          <p:nvPr/>
        </p:nvSpPr>
        <p:spPr>
          <a:xfrm>
            <a:off x="36360" y="37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36360" y="349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对象 1"/>
          <p:cNvGraphicFramePr/>
          <p:nvPr/>
        </p:nvGraphicFramePr>
        <p:xfrm>
          <a:off x="5219640" y="2997360"/>
          <a:ext cx="2210040" cy="1711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9" name="对象 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19640" y="2997360"/>
                    <a:ext cx="2210040" cy="17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9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9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9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0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0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0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Rectangle 4"/>
          <p:cNvSpPr/>
          <p:nvPr/>
        </p:nvSpPr>
        <p:spPr>
          <a:xfrm>
            <a:off x="684360" y="907920"/>
            <a:ext cx="469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60309"/>
                </a:solidFill>
                <a:latin typeface="黑体"/>
                <a:ea typeface="黑体"/>
              </a:rPr>
              <a:t>一、 第一个重要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176720" y="12715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不满足重要极限的式子可以通过添一些项使之满足式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而求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36360" y="37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36360" y="351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3"/>
          <p:cNvSpPr/>
          <p:nvPr/>
        </p:nvSpPr>
        <p:spPr>
          <a:xfrm>
            <a:off x="1168200" y="22820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求极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36360" y="37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11"/>
          <p:cNvGraphicFramePr/>
          <p:nvPr/>
        </p:nvGraphicFramePr>
        <p:xfrm>
          <a:off x="2268360" y="1916280"/>
          <a:ext cx="1447920" cy="71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9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1916280"/>
                    <a:ext cx="144792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6"/>
          <p:cNvSpPr/>
          <p:nvPr/>
        </p:nvSpPr>
        <p:spPr>
          <a:xfrm>
            <a:off x="957240" y="29995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13"/>
          <p:cNvGraphicFramePr/>
          <p:nvPr/>
        </p:nvGraphicFramePr>
        <p:xfrm>
          <a:off x="1692360" y="2781360"/>
          <a:ext cx="144756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2781360"/>
                    <a:ext cx="144756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22"/>
          <p:cNvSpPr/>
          <p:nvPr/>
        </p:nvSpPr>
        <p:spPr>
          <a:xfrm>
            <a:off x="36360" y="349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15"/>
          <p:cNvGraphicFramePr/>
          <p:nvPr/>
        </p:nvGraphicFramePr>
        <p:xfrm>
          <a:off x="3348000" y="2349360"/>
          <a:ext cx="1981080" cy="119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5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8000" y="2349360"/>
                    <a:ext cx="19810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对象 2"/>
          <p:cNvGraphicFramePr/>
          <p:nvPr/>
        </p:nvGraphicFramePr>
        <p:xfrm>
          <a:off x="5364000" y="2205000"/>
          <a:ext cx="2667240" cy="1665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7" name="对象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64000" y="2205000"/>
                    <a:ext cx="266724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4"/>
          <p:cNvSpPr/>
          <p:nvPr/>
        </p:nvSpPr>
        <p:spPr>
          <a:xfrm>
            <a:off x="984240" y="37681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求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Object 4"/>
          <p:cNvGraphicFramePr/>
          <p:nvPr/>
        </p:nvGraphicFramePr>
        <p:xfrm>
          <a:off x="2886120" y="3586320"/>
          <a:ext cx="2133720" cy="86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0" name="Object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86120" y="3586320"/>
                    <a:ext cx="213372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Rectangle 7"/>
          <p:cNvSpPr/>
          <p:nvPr/>
        </p:nvSpPr>
        <p:spPr>
          <a:xfrm>
            <a:off x="717840" y="48376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Object 7"/>
          <p:cNvGraphicFramePr/>
          <p:nvPr/>
        </p:nvGraphicFramePr>
        <p:xfrm>
          <a:off x="1387440" y="4668840"/>
          <a:ext cx="1981080" cy="706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33" name="Object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87440" y="4668840"/>
                    <a:ext cx="19810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9"/>
          <p:cNvGraphicFramePr/>
          <p:nvPr/>
        </p:nvGraphicFramePr>
        <p:xfrm>
          <a:off x="3419640" y="4581360"/>
          <a:ext cx="5343480" cy="88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5" name="Object 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19640" y="4581360"/>
                    <a:ext cx="534348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11"/>
          <p:cNvGraphicFramePr/>
          <p:nvPr/>
        </p:nvGraphicFramePr>
        <p:xfrm>
          <a:off x="3178080" y="5595840"/>
          <a:ext cx="3973680" cy="885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37" name="Object 1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78080" y="5595840"/>
                    <a:ext cx="39736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圆角矩形 3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4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4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4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4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5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5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0" name="Object 4"/>
          <p:cNvGraphicFramePr/>
          <p:nvPr/>
        </p:nvGraphicFramePr>
        <p:xfrm>
          <a:off x="826920" y="836640"/>
          <a:ext cx="380556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836640"/>
                    <a:ext cx="38055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611280" y="1341360"/>
            <a:ext cx="469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60309"/>
                </a:solidFill>
                <a:latin typeface="黑体"/>
                <a:ea typeface="黑体"/>
              </a:rPr>
              <a:t>二、 第二个重要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9"/>
          <p:cNvGraphicFramePr/>
          <p:nvPr/>
        </p:nvGraphicFramePr>
        <p:xfrm>
          <a:off x="801720" y="1773360"/>
          <a:ext cx="2514600" cy="93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1720" y="1773360"/>
                    <a:ext cx="25146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9"/>
          <p:cNvGraphicFramePr/>
          <p:nvPr/>
        </p:nvGraphicFramePr>
        <p:xfrm>
          <a:off x="990720" y="2924280"/>
          <a:ext cx="1457280" cy="449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0720" y="2924280"/>
                    <a:ext cx="1457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7" name="组合 32"/>
          <p:cNvGrpSpPr/>
          <p:nvPr/>
        </p:nvGrpSpPr>
        <p:grpSpPr>
          <a:xfrm>
            <a:off x="2627280" y="2708280"/>
            <a:ext cx="2881440" cy="1101600"/>
            <a:chOff x="2627280" y="2708280"/>
            <a:chExt cx="2881440" cy="1101600"/>
          </a:xfrm>
        </p:grpSpPr>
        <p:graphicFrame>
          <p:nvGraphicFramePr>
            <p:cNvPr id="568" name="Object 9"/>
            <p:cNvGraphicFramePr/>
            <p:nvPr/>
          </p:nvGraphicFramePr>
          <p:xfrm>
            <a:off x="2627280" y="2708280"/>
            <a:ext cx="2881440" cy="1101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69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27280" y="2708280"/>
                      <a:ext cx="2881440" cy="11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0" name="矩形 74"/>
            <p:cNvSpPr/>
            <p:nvPr/>
          </p:nvSpPr>
          <p:spPr>
            <a:xfrm>
              <a:off x="4633920" y="3139920"/>
              <a:ext cx="215640" cy="215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75"/>
            <p:cNvSpPr/>
            <p:nvPr/>
          </p:nvSpPr>
          <p:spPr>
            <a:xfrm>
              <a:off x="4130640" y="3284640"/>
              <a:ext cx="215640" cy="217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31"/>
            <p:cNvSpPr/>
            <p:nvPr/>
          </p:nvSpPr>
          <p:spPr>
            <a:xfrm>
              <a:off x="3170520" y="3427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3" name="直接箭头连接符 77"/>
          <p:cNvCxnSpPr/>
          <p:nvPr/>
        </p:nvCxnSpPr>
        <p:spPr>
          <a:xfrm>
            <a:off x="4211280" y="3573360"/>
            <a:ext cx="432360" cy="50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4" name="直接箭头连接符 78"/>
          <p:cNvCxnSpPr/>
          <p:nvPr/>
        </p:nvCxnSpPr>
        <p:spPr>
          <a:xfrm>
            <a:off x="4716000" y="3428640"/>
            <a:ext cx="35640" cy="64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575" name="Object 9"/>
          <p:cNvGraphicFramePr/>
          <p:nvPr/>
        </p:nvGraphicFramePr>
        <p:xfrm>
          <a:off x="900000" y="4437000"/>
          <a:ext cx="922320" cy="50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00000" y="4437000"/>
                    <a:ext cx="9223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直接连接符 83"/>
          <p:cNvSpPr/>
          <p:nvPr/>
        </p:nvSpPr>
        <p:spPr>
          <a:xfrm>
            <a:off x="3492360" y="3573360"/>
            <a:ext cx="432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8" name="直接箭头连接符 84"/>
          <p:cNvCxnSpPr/>
          <p:nvPr/>
        </p:nvCxnSpPr>
        <p:spPr>
          <a:xfrm flipV="1">
            <a:off x="3708000" y="2420640"/>
            <a:ext cx="359640" cy="115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579" name="Object 12"/>
          <p:cNvGraphicFramePr/>
          <p:nvPr/>
        </p:nvGraphicFramePr>
        <p:xfrm>
          <a:off x="3419640" y="1989000"/>
          <a:ext cx="20523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0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19640" y="1989000"/>
                    <a:ext cx="2052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81" name="直接箭头连接符 86"/>
          <p:cNvCxnSpPr/>
          <p:nvPr/>
        </p:nvCxnSpPr>
        <p:spPr>
          <a:xfrm flipV="1">
            <a:off x="4284360" y="2133000"/>
            <a:ext cx="1367640" cy="1151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582" name="Object 13"/>
          <p:cNvGraphicFramePr/>
          <p:nvPr/>
        </p:nvGraphicFramePr>
        <p:xfrm>
          <a:off x="5511960" y="1700280"/>
          <a:ext cx="2189160" cy="43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83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11960" y="1700280"/>
                    <a:ext cx="21891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Object 14"/>
          <p:cNvGraphicFramePr/>
          <p:nvPr/>
        </p:nvGraphicFramePr>
        <p:xfrm>
          <a:off x="4067280" y="4076640"/>
          <a:ext cx="3676680" cy="43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85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67280" y="4076640"/>
                    <a:ext cx="3676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Object 9"/>
          <p:cNvGraphicFramePr/>
          <p:nvPr/>
        </p:nvGraphicFramePr>
        <p:xfrm>
          <a:off x="1908000" y="4869000"/>
          <a:ext cx="5400720" cy="934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87" name="Object 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08000" y="4869000"/>
                    <a:ext cx="54007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圆角矩形 3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0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Rectangle 4"/>
          <p:cNvSpPr/>
          <p:nvPr/>
        </p:nvSpPr>
        <p:spPr>
          <a:xfrm>
            <a:off x="684360" y="1125360"/>
            <a:ext cx="469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60309"/>
                </a:solidFill>
                <a:latin typeface="黑体"/>
                <a:ea typeface="黑体"/>
              </a:rPr>
              <a:t>二、 第二个重要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Object 9"/>
          <p:cNvGraphicFramePr/>
          <p:nvPr/>
        </p:nvGraphicFramePr>
        <p:xfrm>
          <a:off x="755640" y="1557360"/>
          <a:ext cx="2514600" cy="93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1557360"/>
                    <a:ext cx="25146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9"/>
          <p:cNvGraphicFramePr/>
          <p:nvPr/>
        </p:nvGraphicFramePr>
        <p:xfrm>
          <a:off x="826920" y="2565360"/>
          <a:ext cx="92412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2565360"/>
                    <a:ext cx="924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12"/>
          <p:cNvSpPr/>
          <p:nvPr/>
        </p:nvSpPr>
        <p:spPr>
          <a:xfrm>
            <a:off x="2261880" y="266652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Object 11"/>
          <p:cNvGraphicFramePr/>
          <p:nvPr/>
        </p:nvGraphicFramePr>
        <p:xfrm>
          <a:off x="4361040" y="2484360"/>
          <a:ext cx="1600200" cy="8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1040" y="2484360"/>
                    <a:ext cx="1600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15"/>
          <p:cNvSpPr/>
          <p:nvPr/>
        </p:nvSpPr>
        <p:spPr>
          <a:xfrm>
            <a:off x="2314440" y="380412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Object 13"/>
          <p:cNvGraphicFramePr/>
          <p:nvPr/>
        </p:nvGraphicFramePr>
        <p:xfrm>
          <a:off x="2760840" y="3576600"/>
          <a:ext cx="1600200" cy="868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0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60840" y="3576600"/>
                    <a:ext cx="16002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15"/>
          <p:cNvGraphicFramePr/>
          <p:nvPr/>
        </p:nvGraphicFramePr>
        <p:xfrm>
          <a:off x="4284720" y="3500280"/>
          <a:ext cx="2049480" cy="91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2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4720" y="3500280"/>
                    <a:ext cx="20494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17"/>
          <p:cNvGraphicFramePr/>
          <p:nvPr/>
        </p:nvGraphicFramePr>
        <p:xfrm>
          <a:off x="6189840" y="3514680"/>
          <a:ext cx="2092320" cy="89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4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89840" y="3514680"/>
                    <a:ext cx="20923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19"/>
          <p:cNvGraphicFramePr/>
          <p:nvPr/>
        </p:nvGraphicFramePr>
        <p:xfrm>
          <a:off x="4284720" y="4759200"/>
          <a:ext cx="2062080" cy="874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6" name="Object 1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84720" y="4759200"/>
                    <a:ext cx="20620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21"/>
          <p:cNvGraphicFramePr/>
          <p:nvPr/>
        </p:nvGraphicFramePr>
        <p:xfrm>
          <a:off x="6353280" y="4978440"/>
          <a:ext cx="750960" cy="530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28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53280" y="4978440"/>
                    <a:ext cx="7509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圆角矩形 26"/>
          <p:cNvSpPr/>
          <p:nvPr/>
        </p:nvSpPr>
        <p:spPr>
          <a:xfrm>
            <a:off x="44460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3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3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4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4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4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补充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Rectangle 4"/>
          <p:cNvSpPr/>
          <p:nvPr/>
        </p:nvSpPr>
        <p:spPr>
          <a:xfrm>
            <a:off x="684360" y="1125360"/>
            <a:ext cx="4695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60309"/>
                </a:solidFill>
                <a:latin typeface="黑体"/>
                <a:ea typeface="黑体"/>
              </a:rPr>
              <a:t>二、 第二个重要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Object 9"/>
          <p:cNvGraphicFramePr/>
          <p:nvPr/>
        </p:nvGraphicFramePr>
        <p:xfrm>
          <a:off x="755640" y="1557360"/>
          <a:ext cx="2514600" cy="93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1557360"/>
                    <a:ext cx="25146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9"/>
          <p:cNvGraphicFramePr/>
          <p:nvPr/>
        </p:nvGraphicFramePr>
        <p:xfrm>
          <a:off x="826920" y="2565360"/>
          <a:ext cx="92412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2565360"/>
                    <a:ext cx="924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Rectangle 4"/>
          <p:cNvSpPr/>
          <p:nvPr/>
        </p:nvSpPr>
        <p:spPr>
          <a:xfrm>
            <a:off x="2281680" y="266508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Object 4"/>
          <p:cNvGraphicFramePr/>
          <p:nvPr/>
        </p:nvGraphicFramePr>
        <p:xfrm>
          <a:off x="4356000" y="2349360"/>
          <a:ext cx="1774800" cy="97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8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6000" y="2349360"/>
                    <a:ext cx="1774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Rectangle 7"/>
          <p:cNvSpPr/>
          <p:nvPr/>
        </p:nvSpPr>
        <p:spPr>
          <a:xfrm>
            <a:off x="2193840" y="34300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Object 14"/>
          <p:cNvGraphicFramePr/>
          <p:nvPr/>
        </p:nvGraphicFramePr>
        <p:xfrm>
          <a:off x="2916360" y="3141720"/>
          <a:ext cx="1600200" cy="874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1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16360" y="3141720"/>
                    <a:ext cx="16002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17"/>
          <p:cNvGraphicFramePr/>
          <p:nvPr/>
        </p:nvGraphicFramePr>
        <p:xfrm>
          <a:off x="4788000" y="3213000"/>
          <a:ext cx="3133800" cy="1025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3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88000" y="3213000"/>
                    <a:ext cx="31338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20"/>
          <p:cNvGraphicFramePr/>
          <p:nvPr/>
        </p:nvGraphicFramePr>
        <p:xfrm>
          <a:off x="2916360" y="4076640"/>
          <a:ext cx="3276360" cy="101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65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16360" y="4076640"/>
                    <a:ext cx="32763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对象 1"/>
          <p:cNvGraphicFramePr/>
          <p:nvPr/>
        </p:nvGraphicFramePr>
        <p:xfrm>
          <a:off x="6443640" y="4365720"/>
          <a:ext cx="838080" cy="563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7" name="对象 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43640" y="4365720"/>
                    <a:ext cx="8380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4"/>
          <p:cNvSpPr/>
          <p:nvPr/>
        </p:nvSpPr>
        <p:spPr>
          <a:xfrm>
            <a:off x="995400" y="49420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求极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Object 9"/>
          <p:cNvGraphicFramePr/>
          <p:nvPr/>
        </p:nvGraphicFramePr>
        <p:xfrm>
          <a:off x="3059280" y="5300640"/>
          <a:ext cx="2171520" cy="934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0" name="Object 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59280" y="5300640"/>
                    <a:ext cx="21715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7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7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7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8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51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8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9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Object 29"/>
          <p:cNvGraphicFramePr/>
          <p:nvPr/>
        </p:nvGraphicFramePr>
        <p:xfrm>
          <a:off x="1174680" y="2205000"/>
          <a:ext cx="6853320" cy="158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6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74680" y="2205000"/>
                    <a:ext cx="68533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0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684360" y="836640"/>
          <a:ext cx="7632720" cy="439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836640"/>
                    <a:ext cx="763272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7"/>
          <p:cNvGraphicFramePr/>
          <p:nvPr/>
        </p:nvGraphicFramePr>
        <p:xfrm>
          <a:off x="755640" y="4221000"/>
          <a:ext cx="576360" cy="454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4221000"/>
                    <a:ext cx="5763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28"/>
          <p:cNvGraphicFramePr/>
          <p:nvPr/>
        </p:nvGraphicFramePr>
        <p:xfrm>
          <a:off x="1476360" y="4869000"/>
          <a:ext cx="5762520" cy="484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76360" y="4869000"/>
                    <a:ext cx="57625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1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" name="Object 2"/>
          <p:cNvGraphicFramePr/>
          <p:nvPr/>
        </p:nvGraphicFramePr>
        <p:xfrm>
          <a:off x="826920" y="765000"/>
          <a:ext cx="8044200" cy="4321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765000"/>
                    <a:ext cx="804420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1"/>
          <p:cNvGraphicFramePr/>
          <p:nvPr/>
        </p:nvGraphicFramePr>
        <p:xfrm>
          <a:off x="642960" y="4624560"/>
          <a:ext cx="8064360" cy="22334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2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2960" y="4624560"/>
                    <a:ext cx="806436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" name="Object 4"/>
          <p:cNvGraphicFramePr/>
          <p:nvPr/>
        </p:nvGraphicFramePr>
        <p:xfrm>
          <a:off x="971640" y="692280"/>
          <a:ext cx="7572240" cy="1587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692280"/>
                    <a:ext cx="757224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2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7" name="Object 30"/>
          <p:cNvGraphicFramePr/>
          <p:nvPr/>
        </p:nvGraphicFramePr>
        <p:xfrm>
          <a:off x="1116000" y="1484280"/>
          <a:ext cx="6114960" cy="12175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8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00" y="1484280"/>
                    <a:ext cx="611496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0"/>
          <p:cNvGraphicFramePr/>
          <p:nvPr/>
        </p:nvGraphicFramePr>
        <p:xfrm>
          <a:off x="971640" y="2567160"/>
          <a:ext cx="7675560" cy="10778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30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71640" y="2567160"/>
                    <a:ext cx="76755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0"/>
          <p:cNvGraphicFramePr/>
          <p:nvPr/>
        </p:nvGraphicFramePr>
        <p:xfrm>
          <a:off x="684360" y="3645000"/>
          <a:ext cx="8001000" cy="13683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32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4360" y="3645000"/>
                    <a:ext cx="80010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2"/>
          <p:cNvGraphicFramePr/>
          <p:nvPr/>
        </p:nvGraphicFramePr>
        <p:xfrm>
          <a:off x="4572000" y="4797360"/>
          <a:ext cx="2016000" cy="392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5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0" y="4797360"/>
                    <a:ext cx="20160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2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5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" name="Object 31"/>
          <p:cNvGraphicFramePr/>
          <p:nvPr/>
        </p:nvGraphicFramePr>
        <p:xfrm>
          <a:off x="539640" y="907920"/>
          <a:ext cx="6913800" cy="1597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9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907920"/>
                    <a:ext cx="6913800" cy="15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2"/>
          <p:cNvGraphicFramePr/>
          <p:nvPr/>
        </p:nvGraphicFramePr>
        <p:xfrm>
          <a:off x="684360" y="2492280"/>
          <a:ext cx="7893000" cy="13716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61" name="Object 3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2492280"/>
                    <a:ext cx="7893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32"/>
          <p:cNvGraphicFramePr/>
          <p:nvPr/>
        </p:nvGraphicFramePr>
        <p:xfrm>
          <a:off x="539640" y="3357720"/>
          <a:ext cx="8180640" cy="15048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64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3357720"/>
                    <a:ext cx="818064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1"/>
          <p:cNvGraphicFramePr/>
          <p:nvPr/>
        </p:nvGraphicFramePr>
        <p:xfrm>
          <a:off x="2936880" y="1916280"/>
          <a:ext cx="5829120" cy="504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6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36880" y="1916280"/>
                    <a:ext cx="5829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6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7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7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2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8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8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826920" y="981000"/>
          <a:ext cx="3560760" cy="50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81000"/>
                    <a:ext cx="35607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"/>
          <p:cNvGraphicFramePr/>
          <p:nvPr/>
        </p:nvGraphicFramePr>
        <p:xfrm>
          <a:off x="493560" y="2276640"/>
          <a:ext cx="3434040" cy="290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3560" y="2276640"/>
                    <a:ext cx="343404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7"/>
          <p:cNvGraphicFramePr/>
          <p:nvPr/>
        </p:nvGraphicFramePr>
        <p:xfrm>
          <a:off x="4140360" y="2349360"/>
          <a:ext cx="850680" cy="347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5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40360" y="2349360"/>
                    <a:ext cx="8506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8"/>
          <p:cNvGraphicFramePr/>
          <p:nvPr/>
        </p:nvGraphicFramePr>
        <p:xfrm>
          <a:off x="5148360" y="1916280"/>
          <a:ext cx="2836800" cy="979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7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48360" y="1916280"/>
                    <a:ext cx="283680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9"/>
          <p:cNvGraphicFramePr/>
          <p:nvPr/>
        </p:nvGraphicFramePr>
        <p:xfrm>
          <a:off x="4500720" y="2781360"/>
          <a:ext cx="4128840" cy="1579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9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00720" y="2781360"/>
                    <a:ext cx="41288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10"/>
          <p:cNvGraphicFramePr/>
          <p:nvPr/>
        </p:nvGraphicFramePr>
        <p:xfrm>
          <a:off x="3995640" y="4437000"/>
          <a:ext cx="755640" cy="979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1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95640" y="4437000"/>
                    <a:ext cx="755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11"/>
          <p:cNvGraphicFramePr/>
          <p:nvPr/>
        </p:nvGraphicFramePr>
        <p:xfrm>
          <a:off x="5003640" y="4653000"/>
          <a:ext cx="1982880" cy="504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03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03640" y="4653000"/>
                    <a:ext cx="19828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0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7" name="Object 12"/>
          <p:cNvGraphicFramePr/>
          <p:nvPr/>
        </p:nvGraphicFramePr>
        <p:xfrm>
          <a:off x="539640" y="907920"/>
          <a:ext cx="7650360" cy="1451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8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907920"/>
                    <a:ext cx="765036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2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8" name="Object 31"/>
          <p:cNvGraphicFramePr/>
          <p:nvPr/>
        </p:nvGraphicFramePr>
        <p:xfrm>
          <a:off x="898560" y="2052720"/>
          <a:ext cx="7588080" cy="2239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29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98560" y="2052720"/>
                    <a:ext cx="758808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28"/>
          <p:cNvGraphicFramePr/>
          <p:nvPr/>
        </p:nvGraphicFramePr>
        <p:xfrm>
          <a:off x="4067280" y="907920"/>
          <a:ext cx="755640" cy="979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907920"/>
                    <a:ext cx="755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1"/>
          <p:cNvGraphicFramePr/>
          <p:nvPr/>
        </p:nvGraphicFramePr>
        <p:xfrm>
          <a:off x="833400" y="3352680"/>
          <a:ext cx="7524720" cy="21639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33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3400" y="3352680"/>
                    <a:ext cx="7524720" cy="21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31"/>
          <p:cNvGraphicFramePr/>
          <p:nvPr/>
        </p:nvGraphicFramePr>
        <p:xfrm>
          <a:off x="971640" y="3789360"/>
          <a:ext cx="7522920" cy="237636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35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789360"/>
                    <a:ext cx="75229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31"/>
          <p:cNvGraphicFramePr/>
          <p:nvPr/>
        </p:nvGraphicFramePr>
        <p:xfrm>
          <a:off x="900000" y="4941720"/>
          <a:ext cx="3179880" cy="1043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00000" y="4941720"/>
                    <a:ext cx="317988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圆角矩形 23"/>
          <p:cNvSpPr/>
          <p:nvPr/>
        </p:nvSpPr>
        <p:spPr>
          <a:xfrm>
            <a:off x="395280" y="26028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4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4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5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0" name="Object 7"/>
          <p:cNvGraphicFramePr/>
          <p:nvPr/>
        </p:nvGraphicFramePr>
        <p:xfrm>
          <a:off x="758880" y="4941720"/>
          <a:ext cx="3462120" cy="104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8880" y="4941720"/>
                    <a:ext cx="346212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0"/>
          <p:cNvGraphicFramePr/>
          <p:nvPr/>
        </p:nvGraphicFramePr>
        <p:xfrm>
          <a:off x="1355760" y="717480"/>
          <a:ext cx="2486160" cy="91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3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55760" y="717480"/>
                    <a:ext cx="24861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2101680" y="1917360"/>
            <a:ext cx="44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运用平方差公式，分解出趋向于零的因式，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1738080" y="25664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去后再求极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14"/>
          <p:cNvGraphicFramePr/>
          <p:nvPr/>
        </p:nvGraphicFramePr>
        <p:xfrm>
          <a:off x="900000" y="3141720"/>
          <a:ext cx="1820880" cy="900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2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0000" y="3141720"/>
                    <a:ext cx="18208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20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16"/>
          <p:cNvGraphicFramePr/>
          <p:nvPr/>
        </p:nvGraphicFramePr>
        <p:xfrm>
          <a:off x="2843280" y="3141720"/>
          <a:ext cx="5846760" cy="1209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5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43280" y="3141720"/>
                    <a:ext cx="584676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ectangle 2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18"/>
          <p:cNvGraphicFramePr/>
          <p:nvPr/>
        </p:nvGraphicFramePr>
        <p:xfrm>
          <a:off x="4572000" y="4365720"/>
          <a:ext cx="2808360" cy="1096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8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0" y="4365720"/>
                    <a:ext cx="280836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3"/>
          <p:cNvGraphicFramePr/>
          <p:nvPr/>
        </p:nvGraphicFramePr>
        <p:xfrm>
          <a:off x="3780000" y="1484280"/>
          <a:ext cx="4679640" cy="474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80" name="Object 1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80000" y="1484280"/>
                    <a:ext cx="46796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10"/>
          <p:cNvGraphicFramePr/>
          <p:nvPr/>
        </p:nvGraphicFramePr>
        <p:xfrm>
          <a:off x="4067280" y="765000"/>
          <a:ext cx="1020600" cy="890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82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067280" y="765000"/>
                    <a:ext cx="10206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8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9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56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0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5" name="Object 27"/>
          <p:cNvGraphicFramePr/>
          <p:nvPr/>
        </p:nvGraphicFramePr>
        <p:xfrm>
          <a:off x="468360" y="1636560"/>
          <a:ext cx="7920000" cy="1287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06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636560"/>
                    <a:ext cx="792000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28"/>
          <p:cNvGraphicFramePr/>
          <p:nvPr/>
        </p:nvGraphicFramePr>
        <p:xfrm>
          <a:off x="754200" y="907920"/>
          <a:ext cx="2614320" cy="86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9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907920"/>
                    <a:ext cx="261432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31"/>
          <p:cNvGraphicFramePr/>
          <p:nvPr/>
        </p:nvGraphicFramePr>
        <p:xfrm>
          <a:off x="3564000" y="923760"/>
          <a:ext cx="1152360" cy="103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1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64000" y="923760"/>
                    <a:ext cx="11523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32"/>
          <p:cNvGraphicFramePr/>
          <p:nvPr/>
        </p:nvGraphicFramePr>
        <p:xfrm>
          <a:off x="611280" y="2349360"/>
          <a:ext cx="7993080" cy="865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3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1280" y="2349360"/>
                    <a:ext cx="799308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41"/>
          <p:cNvGraphicFramePr/>
          <p:nvPr/>
        </p:nvGraphicFramePr>
        <p:xfrm>
          <a:off x="1116000" y="3357720"/>
          <a:ext cx="2114640" cy="869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6" name="Object 4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16000" y="3357720"/>
                    <a:ext cx="21146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43"/>
          <p:cNvGraphicFramePr/>
          <p:nvPr/>
        </p:nvGraphicFramePr>
        <p:xfrm>
          <a:off x="3316320" y="3179880"/>
          <a:ext cx="1976400" cy="1474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9" name="Object 4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316320" y="3179880"/>
                    <a:ext cx="1976400" cy="14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45"/>
          <p:cNvGraphicFramePr/>
          <p:nvPr/>
        </p:nvGraphicFramePr>
        <p:xfrm>
          <a:off x="5364000" y="3213000"/>
          <a:ext cx="2953080" cy="1568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22" name="Object 4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64000" y="3213000"/>
                    <a:ext cx="295308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47"/>
          <p:cNvGraphicFramePr/>
          <p:nvPr/>
        </p:nvGraphicFramePr>
        <p:xfrm>
          <a:off x="5435640" y="4869000"/>
          <a:ext cx="2025720" cy="863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5" name="Object 4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435640" y="4869000"/>
                    <a:ext cx="2025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3:47Z</dcterms:modified>
  <cp:revision>76</cp:revision>
  <dc:subject/>
  <dc:title>幻灯片 1</dc:title>
</cp:coreProperties>
</file>